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4FE-3BC7-41B9-968D-258DE1B8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91B-568A-4616-9A9B-30197B9A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469-E74A-4E82-911A-E6B76449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94B-2459-4A71-AA8D-1BCA827E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6A36-6610-41DF-A2DC-56FC3D17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887C-9713-45DD-878C-A73866BC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0756-51E3-4A24-B7F8-93C2CB8E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C90B-D393-426F-9E87-70E13BFE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D4B3-5896-40CE-B1EA-51E0E03B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DD42-EF73-4C7F-AF51-F5BB3EC7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50EC-FF31-48DB-A2A5-DF18C55D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D64-DC56-4B8D-85C8-DE34C02C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6744-FA56-49AB-B428-D0FBFA6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0B13-2E3D-4D54-8FBD-437F51F1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503C-F887-4719-880B-A5F734A2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4108-6C9E-4CB3-A62B-FEE8EB6F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0556-5221-4EDC-86B6-DEADE5F8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12F05-BA37-4BF0-BF10-041EE1AA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73C4-F3D5-4151-AF84-44C96A77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3F6F7-52E3-431C-A34A-DA7B57A4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13D0-C535-499C-B427-C44A5702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7F10-7743-42F3-810E-776A9BA8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435-F03B-4505-B2BA-7B21E6D5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8E60-14CB-443C-8DB7-47FE3388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7CEF9-4E71-49F0-8207-2CCB6522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0CBF-81C3-4527-BC37-4A9A0A7C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B110C-B96F-48C5-A402-1736A556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C272-85BC-4B58-88A9-9E94A300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49B2-D5DD-4C6D-BA37-4FA6F2A1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ABE0-6ACD-4F38-85D1-FE9509CC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8AFEB-3CE6-4159-BE2B-A04D9B4F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EA512-95FC-45B0-A10D-2F5F2506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1609-55C7-44F9-83BB-BBFBFC67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92B-059E-40F6-B97C-F968CD1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77354-6C76-4BE4-9F56-858B6E4C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2872-1145-46DD-8DA1-8FA40F96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FE6CE-8398-4FEA-8DB0-A32B598A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5B21-554F-4BEA-8F09-DD015A33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C7436-AF26-4EF5-B50D-B98732F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43A6-139B-4378-AD22-B69C1D04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97BA-336D-41B7-9B27-44FB381F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FACF1-1E68-4F8C-9434-EC0677AC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CF575-7036-451A-9969-27A09B3E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62E81-8BAF-4155-8BCD-9046A341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981-94AC-4F9C-BD9A-9E00ADBE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8D849-301F-4EAD-9625-7C189074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C518-5301-4432-954E-50F07D47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60F8-28C7-446B-B8DC-E1866920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A85DF-3303-46BD-8769-14F3E814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8D9BC-19D7-4F5C-A27B-D4B4AB3D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E02B3-EB73-46C3-A746-6A06DB21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E09F4-019D-453C-BBFC-32C733CA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ED51B-ACDF-4034-8094-8D51261A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2FFBE-E476-4EB3-B38C-3A3F601A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A23CD-8D9D-4CBC-B1A4-60E418B5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339-D919-4865-A6CA-7FA836DB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C5896-2DD9-4628-B3FA-6A509A90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03A50-40A8-4312-8694-BE5AB666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C0553-8309-4D96-AA6C-888F416F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DBC40-500B-4FA8-BCC4-00F40F84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B0F06-48C7-43C7-89C4-6B0B059E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96281-54CC-45FF-A06F-B1F7BBF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4EB06-F4AD-4FCD-A078-240FDFC9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11F22-5013-4C52-9B9A-356AA8BC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5A2B2-4878-4C9E-8A8C-2AF2F4B8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31C2-27F1-4E61-9A4E-8804E208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638-67E3-4ECF-9B9F-C227E370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969A0-512E-4331-8E9F-ADDD977D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45CDA-897C-489B-A475-18A6200B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F09D4-D493-451B-A331-01B14794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73A48-EAE9-47E2-8ADD-2AA75388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0475B-2102-479F-9DC5-93D2ABFB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11701-60BD-49D0-8B30-8BA4CD1E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5100D-E625-494E-9EBE-3487A995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DE2C0-36F6-4B97-8691-D2AD2490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2D0FC-7EE7-4250-BB51-7D283FF1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EB208-182D-4E1C-88F0-B46E769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489-270E-43A4-A433-EE5295A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5C1F4-E41A-40C5-B678-90D48415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D4636-4B8B-431D-9524-DF200AC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18E15-FEFE-486F-80B6-905D4CD6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8152C-9416-4ADE-AA81-4487CA8A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02AF7-3B18-4155-9C9C-9275EA3A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737-16B6-47FE-8D0C-4E062D22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97AF-C10F-45FB-A70B-6F32AE6F3C0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1E19-1842-4E9A-9954-88E288CF4A6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EBC7-D317-4C05-BE64-0BD398582B7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E20D-A41A-4527-BFCC-668D61C85B4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7700-E9BC-435A-8F8D-0BA374D2ADB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7DC6-9862-49E8-8B7E-2DC4E62CD06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91B7-EAE0-49C4-999E-C1D400EDC5F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Butterfl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51818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6"/>
          <p:cNvSpPr/>
          <p:nvPr/>
        </p:nvSpPr>
        <p:spPr>
          <a:xfrm>
            <a:off x="91440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More than meets the ey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10" descr="http://britton.disted.camosun.bc.ca/escher/butterfly2.jpg"/>
          <p:cNvPicPr/>
          <p:nvPr/>
        </p:nvPicPr>
        <p:blipFill>
          <a:blip r:embed="rId1"/>
          <a:stretch/>
        </p:blipFill>
        <p:spPr>
          <a:xfrm>
            <a:off x="2057400" y="1066680"/>
            <a:ext cx="55785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Smaller and Small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Content Placeholder 3" descr="smaller_and_smaller.jpg"/>
          <p:cNvPicPr/>
          <p:nvPr/>
        </p:nvPicPr>
        <p:blipFill>
          <a:blip r:embed="rId1"/>
          <a:stretch/>
        </p:blipFill>
        <p:spPr>
          <a:xfrm>
            <a:off x="2476440" y="178452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Path of Life I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Content Placeholder 3" descr="pathlife.jpg"/>
          <p:cNvPicPr/>
          <p:nvPr/>
        </p:nvPicPr>
        <p:blipFill>
          <a:blip r:embed="rId1"/>
          <a:stretch/>
        </p:blipFill>
        <p:spPr>
          <a:xfrm>
            <a:off x="2743200" y="14479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Whirlpoo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5" name="Content Placeholder 3" descr="al_Escher08_Whirlpools.jpg"/>
          <p:cNvPicPr/>
          <p:nvPr/>
        </p:nvPicPr>
        <p:blipFill>
          <a:blip r:embed="rId1"/>
          <a:stretch/>
        </p:blipFill>
        <p:spPr>
          <a:xfrm>
            <a:off x="3429000" y="1600200"/>
            <a:ext cx="2816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Equiangular Spir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2805120" y="1738440"/>
            <a:ext cx="38354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Escher_circle_limit_1.jpg"/>
          <p:cNvPicPr/>
          <p:nvPr/>
        </p:nvPicPr>
        <p:blipFill>
          <a:blip r:embed="rId1"/>
          <a:stretch/>
        </p:blipFill>
        <p:spPr>
          <a:xfrm>
            <a:off x="2590920" y="1523880"/>
            <a:ext cx="4406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I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CircLim3.gif"/>
          <p:cNvPicPr/>
          <p:nvPr/>
        </p:nvPicPr>
        <p:blipFill>
          <a:blip r:embed="rId1"/>
          <a:stretch/>
        </p:blipFill>
        <p:spPr>
          <a:xfrm>
            <a:off x="2514600" y="13716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V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“Heaven and Hell”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Content Placeholder 3" descr="Escher_circle_limit_4.jpg"/>
          <p:cNvPicPr/>
          <p:nvPr/>
        </p:nvPicPr>
        <p:blipFill>
          <a:blip r:embed="rId1"/>
          <a:stretch/>
        </p:blipFill>
        <p:spPr>
          <a:xfrm>
            <a:off x="2560680" y="1784520"/>
            <a:ext cx="447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Square Limi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800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4:17:27Z</dcterms:created>
  <dc:creator>Stephanie Cates</dc:creator>
  <dc:description/>
  <dc:language>en-US</dc:language>
  <cp:lastModifiedBy>Stephanie Cates</cp:lastModifiedBy>
  <dcterms:modified xsi:type="dcterms:W3CDTF">2007-07-30T04:19:18Z</dcterms:modified>
  <cp:revision>1</cp:revision>
  <dc:subject/>
  <dc:title>Butterfly</dc:title>
</cp:coreProperties>
</file>